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25360" y="693720"/>
            <a:ext cx="4607280" cy="345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9400"/>
            <a:ext cx="5029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595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595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FAC8-3C1C-4B8E-A4C3-FD8A8E77D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25360" y="693720"/>
            <a:ext cx="4607280" cy="34545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79400"/>
            <a:ext cx="5029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D2B-8E6E-4B8E-8145-E8201074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D146-373F-4881-ACA8-0B9ECF08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8494-C959-4778-81B2-D3253FF2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5534-56D0-4DD3-A862-CF7C4522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1822-D520-4618-959E-7C6AA078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F98-E85A-4686-A0FD-021D8DC5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D50F-E902-4C1B-A5B6-7DA8F9A0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FD86-04F1-42C6-9D08-F3AD9069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0DE9-25FC-40B2-A45D-6DABACB9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6644-28D5-4B4E-B29D-D1D4B556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2DF-ECD8-4B2D-94C0-975501E6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16A6-C64F-44C7-8B33-45EC8F64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Introduction to Organizational Behavior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14FB-844A-45B4-AE59-A97468C68986}" type="slidenum">
              <a:t>1</a:t>
            </a:fld>
          </a:p>
        </p:txBody>
      </p:sp>
    </p:spTree>
  </p:cSld>
  <p:transition spd="med" advTm="8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75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758880" y="1407960"/>
            <a:ext cx="7637400" cy="4761000"/>
            <a:chOff x="758880" y="1407960"/>
            <a:chExt cx="7637400" cy="4761000"/>
          </a:xfrm>
        </p:grpSpPr>
        <p:sp>
          <p:nvSpPr>
            <p:cNvPr id="107" name=""/>
            <p:cNvSpPr/>
            <p:nvPr/>
          </p:nvSpPr>
          <p:spPr>
            <a:xfrm>
              <a:off x="758880" y="1407960"/>
              <a:ext cx="7637400" cy="4219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160640" y="1760400"/>
              <a:ext cx="6696000" cy="3873600"/>
              <a:chOff x="1160640" y="1760400"/>
              <a:chExt cx="6696000" cy="387360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2886120" y="2662200"/>
                <a:ext cx="706320" cy="2971800"/>
                <a:chOff x="2886120" y="2662200"/>
                <a:chExt cx="706320" cy="29718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995560" y="2878200"/>
                  <a:ext cx="596880" cy="27558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886120" y="2857680"/>
                  <a:ext cx="217440" cy="277164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914560" y="2665440"/>
                  <a:ext cx="176400" cy="264960"/>
                </a:xfrm>
                <a:custGeom>
                  <a:avLst/>
                  <a:gdLst/>
                  <a:ahLst/>
                  <a:rect l="l" t="t" r="r" b="b"/>
                  <a:pathLst>
                    <a:path w="111" h="167">
                      <a:moveTo>
                        <a:pt x="110" y="166"/>
                      </a:moveTo>
                      <a:lnTo>
                        <a:pt x="110" y="16"/>
                      </a:lnTo>
                      <a:lnTo>
                        <a:pt x="0" y="0"/>
                      </a:lnTo>
                      <a:lnTo>
                        <a:pt x="4" y="166"/>
                      </a:lnTo>
                      <a:lnTo>
                        <a:pt x="110" y="166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084480" y="2662200"/>
                  <a:ext cx="507960" cy="426960"/>
                </a:xfrm>
                <a:custGeom>
                  <a:avLst/>
                  <a:gdLst/>
                  <a:ahLst/>
                  <a:rect l="l" t="t" r="r" b="b"/>
                  <a:pathLst>
                    <a:path w="320" h="269">
                      <a:moveTo>
                        <a:pt x="0" y="0"/>
                      </a:moveTo>
                      <a:lnTo>
                        <a:pt x="319" y="139"/>
                      </a:lnTo>
                      <a:lnTo>
                        <a:pt x="319" y="268"/>
                      </a:lnTo>
                      <a:lnTo>
                        <a:pt x="0" y="13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160640" y="1760400"/>
                <a:ext cx="1804680" cy="3868920"/>
                <a:chOff x="1160640" y="1760400"/>
                <a:chExt cx="1804680" cy="38689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887480" y="1760400"/>
                  <a:ext cx="49320" cy="276480"/>
                </a:xfrm>
                <a:custGeom>
                  <a:avLst/>
                  <a:gdLst/>
                  <a:ahLst/>
                  <a:rect l="l" t="t" r="r" b="b"/>
                  <a:pathLst>
                    <a:path w="31" h="174">
                      <a:moveTo>
                        <a:pt x="0" y="173"/>
                      </a:moveTo>
                      <a:lnTo>
                        <a:pt x="0" y="0"/>
                      </a:lnTo>
                      <a:lnTo>
                        <a:pt x="30" y="7"/>
                      </a:lnTo>
                      <a:lnTo>
                        <a:pt x="30" y="161"/>
                      </a:lnTo>
                      <a:lnTo>
                        <a:pt x="0" y="173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763640" y="1996920"/>
                  <a:ext cx="289080" cy="150840"/>
                </a:xfrm>
                <a:custGeom>
                  <a:avLst/>
                  <a:gdLst/>
                  <a:ahLst/>
                  <a:rect l="l" t="t" r="r" b="b"/>
                  <a:pathLst>
                    <a:path w="182" h="95">
                      <a:moveTo>
                        <a:pt x="0" y="94"/>
                      </a:moveTo>
                      <a:lnTo>
                        <a:pt x="0" y="23"/>
                      </a:lnTo>
                      <a:lnTo>
                        <a:pt x="181" y="0"/>
                      </a:lnTo>
                      <a:lnTo>
                        <a:pt x="181" y="70"/>
                      </a:lnTo>
                      <a:lnTo>
                        <a:pt x="0" y="94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039760" y="1994040"/>
                  <a:ext cx="123840" cy="98280"/>
                </a:xfrm>
                <a:custGeom>
                  <a:avLst/>
                  <a:gdLst/>
                  <a:ahLst/>
                  <a:rect l="l" t="t" r="r" b="b"/>
                  <a:pathLst>
                    <a:path w="78" h="62">
                      <a:moveTo>
                        <a:pt x="0" y="53"/>
                      </a:moveTo>
                      <a:lnTo>
                        <a:pt x="0" y="0"/>
                      </a:lnTo>
                      <a:lnTo>
                        <a:pt x="77" y="23"/>
                      </a:lnTo>
                      <a:lnTo>
                        <a:pt x="66" y="61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451240" y="2095560"/>
                  <a:ext cx="280800" cy="304920"/>
                </a:xfrm>
                <a:custGeom>
                  <a:avLst/>
                  <a:gdLst/>
                  <a:ahLst/>
                  <a:rect l="l" t="t" r="r" b="b"/>
                  <a:pathLst>
                    <a:path w="177" h="192">
                      <a:moveTo>
                        <a:pt x="149" y="0"/>
                      </a:moveTo>
                      <a:lnTo>
                        <a:pt x="0" y="35"/>
                      </a:lnTo>
                      <a:lnTo>
                        <a:pt x="45" y="191"/>
                      </a:lnTo>
                      <a:lnTo>
                        <a:pt x="176" y="154"/>
                      </a:lnTo>
                      <a:lnTo>
                        <a:pt x="149" y="0"/>
                      </a:lnTo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300400" y="2016000"/>
                  <a:ext cx="664920" cy="3613320"/>
                </a:xfrm>
                <a:custGeom>
                  <a:avLst/>
                  <a:gdLst/>
                  <a:ahLst/>
                  <a:rect l="l" t="t" r="r" b="b"/>
                  <a:pathLst>
                    <a:path w="419" h="2276">
                      <a:moveTo>
                        <a:pt x="0" y="1819"/>
                      </a:moveTo>
                      <a:lnTo>
                        <a:pt x="0" y="1413"/>
                      </a:lnTo>
                      <a:lnTo>
                        <a:pt x="62" y="1265"/>
                      </a:lnTo>
                      <a:lnTo>
                        <a:pt x="62" y="0"/>
                      </a:lnTo>
                      <a:lnTo>
                        <a:pt x="243" y="110"/>
                      </a:lnTo>
                      <a:lnTo>
                        <a:pt x="243" y="47"/>
                      </a:lnTo>
                      <a:lnTo>
                        <a:pt x="395" y="141"/>
                      </a:lnTo>
                      <a:lnTo>
                        <a:pt x="395" y="202"/>
                      </a:lnTo>
                      <a:lnTo>
                        <a:pt x="418" y="233"/>
                      </a:lnTo>
                      <a:lnTo>
                        <a:pt x="418" y="2275"/>
                      </a:lnTo>
                      <a:lnTo>
                        <a:pt x="61" y="2275"/>
                      </a:lnTo>
                      <a:lnTo>
                        <a:pt x="0" y="2273"/>
                      </a:lnTo>
                      <a:lnTo>
                        <a:pt x="0" y="1819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165320" y="2016000"/>
                  <a:ext cx="1241280" cy="3613320"/>
                </a:xfrm>
                <a:custGeom>
                  <a:avLst/>
                  <a:gdLst/>
                  <a:ahLst/>
                  <a:rect l="l" t="t" r="r" b="b"/>
                  <a:pathLst>
                    <a:path w="782" h="2276">
                      <a:moveTo>
                        <a:pt x="0" y="2275"/>
                      </a:moveTo>
                      <a:lnTo>
                        <a:pt x="0" y="1414"/>
                      </a:lnTo>
                      <a:lnTo>
                        <a:pt x="65" y="1270"/>
                      </a:lnTo>
                      <a:lnTo>
                        <a:pt x="65" y="154"/>
                      </a:lnTo>
                      <a:lnTo>
                        <a:pt x="101" y="90"/>
                      </a:lnTo>
                      <a:lnTo>
                        <a:pt x="781" y="0"/>
                      </a:lnTo>
                      <a:lnTo>
                        <a:pt x="781" y="1273"/>
                      </a:lnTo>
                      <a:lnTo>
                        <a:pt x="723" y="1421"/>
                      </a:lnTo>
                      <a:lnTo>
                        <a:pt x="723" y="2275"/>
                      </a:lnTo>
                      <a:lnTo>
                        <a:pt x="0" y="2275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1206360" y="4538520"/>
                  <a:ext cx="1073160" cy="257400"/>
                  <a:chOff x="1206360" y="4538520"/>
                  <a:chExt cx="1073160" cy="2574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1208160" y="4538520"/>
                    <a:ext cx="107136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1206360" y="4626000"/>
                    <a:ext cx="107316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1206360" y="4794120"/>
                    <a:ext cx="107316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1206360" y="4714920"/>
                    <a:ext cx="107316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"/>
                <p:cNvSpPr/>
                <p:nvPr/>
              </p:nvSpPr>
              <p:spPr>
                <a:xfrm>
                  <a:off x="2857680" y="2374920"/>
                  <a:ext cx="50760" cy="19494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568600" y="2225520"/>
                  <a:ext cx="49320" cy="19512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754360" y="2314440"/>
                  <a:ext cx="49320" cy="19497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671920" y="2265480"/>
                  <a:ext cx="50760" cy="19476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476440" y="2166840"/>
                  <a:ext cx="49320" cy="19465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65400" y="2016000"/>
                  <a:ext cx="1143000" cy="260640"/>
                </a:xfrm>
                <a:custGeom>
                  <a:avLst/>
                  <a:gdLst/>
                  <a:ahLst/>
                  <a:rect l="l" t="t" r="r" b="b"/>
                  <a:pathLst>
                    <a:path w="720" h="164">
                      <a:moveTo>
                        <a:pt x="0" y="163"/>
                      </a:moveTo>
                      <a:lnTo>
                        <a:pt x="39" y="93"/>
                      </a:lnTo>
                      <a:lnTo>
                        <a:pt x="719" y="0"/>
                      </a:lnTo>
                      <a:lnTo>
                        <a:pt x="719" y="90"/>
                      </a:lnTo>
                      <a:lnTo>
                        <a:pt x="0" y="163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160640" y="4037040"/>
                  <a:ext cx="1245960" cy="239760"/>
                </a:xfrm>
                <a:custGeom>
                  <a:avLst/>
                  <a:gdLst/>
                  <a:ahLst/>
                  <a:rect l="l" t="t" r="r" b="b"/>
                  <a:pathLst>
                    <a:path w="785" h="151">
                      <a:moveTo>
                        <a:pt x="69" y="0"/>
                      </a:moveTo>
                      <a:lnTo>
                        <a:pt x="784" y="0"/>
                      </a:lnTo>
                      <a:lnTo>
                        <a:pt x="726" y="150"/>
                      </a:lnTo>
                      <a:lnTo>
                        <a:pt x="0" y="150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057400" y="2170080"/>
                  <a:ext cx="165240" cy="2111400"/>
                </a:xfrm>
                <a:custGeom>
                  <a:avLst/>
                  <a:gdLst/>
                  <a:ahLst/>
                  <a:rect l="l" t="t" r="r" b="b"/>
                  <a:pathLst>
                    <a:path w="104" h="1330">
                      <a:moveTo>
                        <a:pt x="103" y="0"/>
                      </a:moveTo>
                      <a:lnTo>
                        <a:pt x="103" y="1178"/>
                      </a:lnTo>
                      <a:lnTo>
                        <a:pt x="39" y="1329"/>
                      </a:lnTo>
                      <a:lnTo>
                        <a:pt x="0" y="1329"/>
                      </a:lnTo>
                      <a:lnTo>
                        <a:pt x="66" y="1180"/>
                      </a:lnTo>
                      <a:lnTo>
                        <a:pt x="66" y="3"/>
                      </a:lnTo>
                      <a:lnTo>
                        <a:pt x="103" y="0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79560" y="2192400"/>
                  <a:ext cx="152280" cy="2089080"/>
                </a:xfrm>
                <a:custGeom>
                  <a:avLst/>
                  <a:gdLst/>
                  <a:ahLst/>
                  <a:rect l="l" t="t" r="r" b="b"/>
                  <a:pathLst>
                    <a:path w="96" h="1316">
                      <a:moveTo>
                        <a:pt x="0" y="1313"/>
                      </a:moveTo>
                      <a:lnTo>
                        <a:pt x="61" y="1164"/>
                      </a:lnTo>
                      <a:lnTo>
                        <a:pt x="61" y="2"/>
                      </a:lnTo>
                      <a:lnTo>
                        <a:pt x="95" y="0"/>
                      </a:lnTo>
                      <a:lnTo>
                        <a:pt x="95" y="1168"/>
                      </a:lnTo>
                      <a:lnTo>
                        <a:pt x="37" y="1315"/>
                      </a:lnTo>
                      <a:lnTo>
                        <a:pt x="0" y="131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682640" y="2208240"/>
                  <a:ext cx="157320" cy="2068560"/>
                </a:xfrm>
                <a:custGeom>
                  <a:avLst/>
                  <a:gdLst/>
                  <a:ahLst/>
                  <a:rect l="l" t="t" r="r" b="b"/>
                  <a:pathLst>
                    <a:path w="99" h="1303">
                      <a:moveTo>
                        <a:pt x="62" y="5"/>
                      </a:moveTo>
                      <a:lnTo>
                        <a:pt x="98" y="0"/>
                      </a:lnTo>
                      <a:lnTo>
                        <a:pt x="98" y="1161"/>
                      </a:lnTo>
                      <a:lnTo>
                        <a:pt x="41" y="1302"/>
                      </a:lnTo>
                      <a:lnTo>
                        <a:pt x="0" y="1302"/>
                      </a:lnTo>
                      <a:lnTo>
                        <a:pt x="62" y="1157"/>
                      </a:lnTo>
                      <a:lnTo>
                        <a:pt x="62" y="5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488960" y="2232000"/>
                  <a:ext cx="165240" cy="2049480"/>
                </a:xfrm>
                <a:custGeom>
                  <a:avLst/>
                  <a:gdLst/>
                  <a:ahLst/>
                  <a:rect l="l" t="t" r="r" b="b"/>
                  <a:pathLst>
                    <a:path w="104" h="1291">
                      <a:moveTo>
                        <a:pt x="66" y="2"/>
                      </a:moveTo>
                      <a:lnTo>
                        <a:pt x="103" y="0"/>
                      </a:lnTo>
                      <a:lnTo>
                        <a:pt x="103" y="1145"/>
                      </a:lnTo>
                      <a:lnTo>
                        <a:pt x="42" y="1290"/>
                      </a:lnTo>
                      <a:lnTo>
                        <a:pt x="0" y="1290"/>
                      </a:lnTo>
                      <a:lnTo>
                        <a:pt x="66" y="1143"/>
                      </a:lnTo>
                      <a:lnTo>
                        <a:pt x="66" y="2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309680" y="2249640"/>
                  <a:ext cx="160200" cy="2025360"/>
                </a:xfrm>
                <a:custGeom>
                  <a:avLst/>
                  <a:gdLst/>
                  <a:ahLst/>
                  <a:rect l="l" t="t" r="r" b="b"/>
                  <a:pathLst>
                    <a:path w="101" h="1276">
                      <a:moveTo>
                        <a:pt x="62" y="3"/>
                      </a:moveTo>
                      <a:lnTo>
                        <a:pt x="100" y="0"/>
                      </a:lnTo>
                      <a:lnTo>
                        <a:pt x="100" y="1130"/>
                      </a:lnTo>
                      <a:lnTo>
                        <a:pt x="35" y="1275"/>
                      </a:lnTo>
                      <a:lnTo>
                        <a:pt x="0" y="1275"/>
                      </a:lnTo>
                      <a:lnTo>
                        <a:pt x="62" y="1131"/>
                      </a:lnTo>
                      <a:lnTo>
                        <a:pt x="62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3146400" y="4446720"/>
                <a:ext cx="276120" cy="1187280"/>
                <a:chOff x="3146400" y="4446720"/>
                <a:chExt cx="276120" cy="11872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3146400" y="4446720"/>
                  <a:ext cx="276120" cy="1187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211560" y="4510080"/>
                  <a:ext cx="55440" cy="423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298680" y="4510080"/>
                  <a:ext cx="54000" cy="423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181320" y="4587840"/>
                  <a:ext cx="212760" cy="180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193920" y="4678200"/>
                  <a:ext cx="209520" cy="180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181320" y="4754520"/>
                  <a:ext cx="214200" cy="180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93920" y="4838760"/>
                  <a:ext cx="209520" cy="144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303800" y="3844800"/>
                <a:ext cx="842760" cy="1784520"/>
                <a:chOff x="4303800" y="3844800"/>
                <a:chExt cx="842760" cy="17845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4818240" y="4003560"/>
                  <a:ext cx="326880" cy="16257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303800" y="3848040"/>
                  <a:ext cx="650880" cy="1781280"/>
                </a:xfrm>
                <a:custGeom>
                  <a:avLst/>
                  <a:gdLst/>
                  <a:ahLst/>
                  <a:rect l="l" t="t" r="r" b="b"/>
                  <a:pathLst>
                    <a:path w="410" h="1122">
                      <a:moveTo>
                        <a:pt x="0" y="27"/>
                      </a:moveTo>
                      <a:lnTo>
                        <a:pt x="0" y="1121"/>
                      </a:lnTo>
                      <a:lnTo>
                        <a:pt x="409" y="1121"/>
                      </a:lnTo>
                      <a:lnTo>
                        <a:pt x="409" y="0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935600" y="3844800"/>
                  <a:ext cx="210960" cy="306360"/>
                </a:xfrm>
                <a:custGeom>
                  <a:avLst/>
                  <a:gdLst/>
                  <a:ahLst/>
                  <a:rect l="l" t="t" r="r" b="b"/>
                  <a:pathLst>
                    <a:path w="133" h="193">
                      <a:moveTo>
                        <a:pt x="0" y="0"/>
                      </a:moveTo>
                      <a:lnTo>
                        <a:pt x="132" y="99"/>
                      </a:lnTo>
                      <a:lnTo>
                        <a:pt x="132" y="192"/>
                      </a:lnTo>
                      <a:lnTo>
                        <a:pt x="0" y="1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365720" y="4065480"/>
                  <a:ext cx="65160" cy="754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775040" y="4075200"/>
                  <a:ext cx="61920" cy="75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330800" y="4195800"/>
                  <a:ext cx="585720" cy="1440"/>
                </a:xfrm>
                <a:prstGeom prst="line">
                  <a:avLst/>
                </a:prstGeom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344840" y="4341960"/>
                  <a:ext cx="551160" cy="1440"/>
                </a:xfrm>
                <a:prstGeom prst="line">
                  <a:avLst/>
                </a:prstGeom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335480" y="4510080"/>
                  <a:ext cx="558720" cy="1440"/>
                </a:xfrm>
                <a:prstGeom prst="line">
                  <a:avLst/>
                </a:prstGeom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354560" y="4653000"/>
                  <a:ext cx="542880" cy="1440"/>
                </a:xfrm>
                <a:prstGeom prst="line">
                  <a:avLst/>
                </a:prstGeom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170840" y="3600360"/>
                <a:ext cx="685800" cy="2028960"/>
                <a:chOff x="7170840" y="3600360"/>
                <a:chExt cx="685800" cy="20289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485120" y="3600360"/>
                  <a:ext cx="223920" cy="222480"/>
                </a:xfrm>
                <a:custGeom>
                  <a:avLst/>
                  <a:gdLst/>
                  <a:ahLst/>
                  <a:rect l="l" t="t" r="r" b="b"/>
                  <a:pathLst>
                    <a:path w="141" h="140">
                      <a:moveTo>
                        <a:pt x="14" y="0"/>
                      </a:moveTo>
                      <a:lnTo>
                        <a:pt x="140" y="47"/>
                      </a:lnTo>
                      <a:lnTo>
                        <a:pt x="133" y="139"/>
                      </a:lnTo>
                      <a:lnTo>
                        <a:pt x="0" y="101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402680" y="3600360"/>
                  <a:ext cx="120600" cy="23652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170840" y="3763800"/>
                  <a:ext cx="419040" cy="186372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575480" y="3762360"/>
                  <a:ext cx="281160" cy="1866960"/>
                </a:xfrm>
                <a:custGeom>
                  <a:avLst/>
                  <a:gdLst/>
                  <a:ahLst/>
                  <a:rect l="l" t="t" r="r" b="b"/>
                  <a:pathLst>
                    <a:path w="177" h="1176">
                      <a:moveTo>
                        <a:pt x="0" y="0"/>
                      </a:moveTo>
                      <a:lnTo>
                        <a:pt x="176" y="48"/>
                      </a:lnTo>
                      <a:lnTo>
                        <a:pt x="176" y="1175"/>
                      </a:lnTo>
                      <a:lnTo>
                        <a:pt x="0" y="11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245360" y="3865680"/>
                  <a:ext cx="61920" cy="914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335720" y="3865680"/>
                  <a:ext cx="65160" cy="914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442280" y="3865680"/>
                  <a:ext cx="63360" cy="914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184880" y="4025880"/>
                  <a:ext cx="373320" cy="1440"/>
                </a:xfrm>
                <a:prstGeom prst="line">
                  <a:avLst/>
                </a:prstGeom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197840" y="4197240"/>
                  <a:ext cx="372960" cy="1800"/>
                </a:xfrm>
                <a:prstGeom prst="line">
                  <a:avLst/>
                </a:prstGeom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189920" y="4402080"/>
                  <a:ext cx="380880" cy="1800"/>
                </a:xfrm>
                <a:prstGeom prst="line">
                  <a:avLst/>
                </a:prstGeom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210440" y="4573440"/>
                  <a:ext cx="341280" cy="1800"/>
                </a:xfrm>
                <a:prstGeom prst="line">
                  <a:avLst/>
                </a:prstGeom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593040" y="4245120"/>
                <a:ext cx="652320" cy="1388880"/>
                <a:chOff x="6593040" y="4245120"/>
                <a:chExt cx="652320" cy="1388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593040" y="4245120"/>
                  <a:ext cx="388800" cy="138888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64200" y="4245120"/>
                  <a:ext cx="281160" cy="1384200"/>
                </a:xfrm>
                <a:custGeom>
                  <a:avLst/>
                  <a:gdLst/>
                  <a:ahLst/>
                  <a:rect l="l" t="t" r="r" b="b"/>
                  <a:pathLst>
                    <a:path w="177" h="872">
                      <a:moveTo>
                        <a:pt x="0" y="0"/>
                      </a:moveTo>
                      <a:lnTo>
                        <a:pt x="176" y="69"/>
                      </a:lnTo>
                      <a:lnTo>
                        <a:pt x="176" y="871"/>
                      </a:lnTo>
                      <a:lnTo>
                        <a:pt x="0" y="87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359320" y="2519280"/>
                <a:ext cx="1268640" cy="3114720"/>
                <a:chOff x="5359320" y="2519280"/>
                <a:chExt cx="1268640" cy="31147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6380280" y="2522520"/>
                  <a:ext cx="247680" cy="3111480"/>
                </a:xfrm>
                <a:custGeom>
                  <a:avLst/>
                  <a:gdLst/>
                  <a:ahLst/>
                  <a:rect l="l" t="t" r="r" b="b"/>
                  <a:pathLst>
                    <a:path w="156" h="1960">
                      <a:moveTo>
                        <a:pt x="13" y="0"/>
                      </a:moveTo>
                      <a:lnTo>
                        <a:pt x="155" y="153"/>
                      </a:lnTo>
                      <a:lnTo>
                        <a:pt x="155" y="1957"/>
                      </a:lnTo>
                      <a:lnTo>
                        <a:pt x="0" y="1959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359320" y="2519280"/>
                  <a:ext cx="1060560" cy="3114720"/>
                </a:xfrm>
                <a:custGeom>
                  <a:avLst/>
                  <a:gdLst/>
                  <a:ahLst/>
                  <a:rect l="l" t="t" r="r" b="b"/>
                  <a:pathLst>
                    <a:path w="668" h="1962">
                      <a:moveTo>
                        <a:pt x="0" y="60"/>
                      </a:moveTo>
                      <a:lnTo>
                        <a:pt x="667" y="0"/>
                      </a:lnTo>
                      <a:lnTo>
                        <a:pt x="667" y="1961"/>
                      </a:lnTo>
                      <a:lnTo>
                        <a:pt x="0" y="1959"/>
                      </a:lnTo>
                      <a:lnTo>
                        <a:pt x="0" y="6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180120" y="2533680"/>
                  <a:ext cx="76320" cy="3100320"/>
                </a:xfrm>
                <a:custGeom>
                  <a:avLst/>
                  <a:gdLst/>
                  <a:ahLst/>
                  <a:rect l="l" t="t" r="r" b="b"/>
                  <a:pathLst>
                    <a:path w="48" h="1953">
                      <a:moveTo>
                        <a:pt x="47" y="0"/>
                      </a:moveTo>
                      <a:lnTo>
                        <a:pt x="0" y="2"/>
                      </a:lnTo>
                      <a:lnTo>
                        <a:pt x="0" y="1952"/>
                      </a:lnTo>
                      <a:lnTo>
                        <a:pt x="47" y="1952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94360" y="2550960"/>
                  <a:ext cx="71640" cy="3078360"/>
                </a:xfrm>
                <a:custGeom>
                  <a:avLst/>
                  <a:gdLst/>
                  <a:ahLst/>
                  <a:rect l="l" t="t" r="r" b="b"/>
                  <a:pathLst>
                    <a:path w="45" h="1939">
                      <a:moveTo>
                        <a:pt x="44" y="0"/>
                      </a:moveTo>
                      <a:lnTo>
                        <a:pt x="1" y="6"/>
                      </a:lnTo>
                      <a:lnTo>
                        <a:pt x="0" y="1938"/>
                      </a:lnTo>
                      <a:lnTo>
                        <a:pt x="43" y="1938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805360" y="2570040"/>
                  <a:ext cx="69840" cy="3057480"/>
                </a:xfrm>
                <a:custGeom>
                  <a:avLst/>
                  <a:gdLst/>
                  <a:ahLst/>
                  <a:rect l="l" t="t" r="r" b="b"/>
                  <a:pathLst>
                    <a:path w="44" h="1926">
                      <a:moveTo>
                        <a:pt x="43" y="0"/>
                      </a:moveTo>
                      <a:lnTo>
                        <a:pt x="1" y="2"/>
                      </a:lnTo>
                      <a:lnTo>
                        <a:pt x="0" y="1925"/>
                      </a:lnTo>
                      <a:lnTo>
                        <a:pt x="42" y="1925"/>
                      </a:lnTo>
                      <a:lnTo>
                        <a:pt x="4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619600" y="2584440"/>
                  <a:ext cx="71640" cy="3043080"/>
                </a:xfrm>
                <a:custGeom>
                  <a:avLst/>
                  <a:gdLst/>
                  <a:ahLst/>
                  <a:rect l="l" t="t" r="r" b="b"/>
                  <a:pathLst>
                    <a:path w="45" h="1917">
                      <a:moveTo>
                        <a:pt x="44" y="0"/>
                      </a:moveTo>
                      <a:lnTo>
                        <a:pt x="1" y="2"/>
                      </a:lnTo>
                      <a:lnTo>
                        <a:pt x="0" y="1916"/>
                      </a:lnTo>
                      <a:lnTo>
                        <a:pt x="43" y="1916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437080" y="2602080"/>
                  <a:ext cx="71640" cy="3027240"/>
                </a:xfrm>
                <a:custGeom>
                  <a:avLst/>
                  <a:gdLst/>
                  <a:ahLst/>
                  <a:rect l="l" t="t" r="r" b="b"/>
                  <a:pathLst>
                    <a:path w="45" h="1907">
                      <a:moveTo>
                        <a:pt x="44" y="0"/>
                      </a:moveTo>
                      <a:lnTo>
                        <a:pt x="1" y="2"/>
                      </a:lnTo>
                      <a:lnTo>
                        <a:pt x="0" y="1906"/>
                      </a:lnTo>
                      <a:lnTo>
                        <a:pt x="43" y="1906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3459240" y="4341960"/>
                <a:ext cx="850680" cy="1287360"/>
                <a:chOff x="3459240" y="4341960"/>
                <a:chExt cx="850680" cy="12873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459240" y="4341960"/>
                  <a:ext cx="511200" cy="1285560"/>
                </a:xfrm>
                <a:custGeom>
                  <a:avLst/>
                  <a:gdLst/>
                  <a:ahLst/>
                  <a:rect l="l" t="t" r="r" b="b"/>
                  <a:pathLst>
                    <a:path w="322" h="810">
                      <a:moveTo>
                        <a:pt x="0" y="0"/>
                      </a:moveTo>
                      <a:lnTo>
                        <a:pt x="321" y="9"/>
                      </a:lnTo>
                      <a:lnTo>
                        <a:pt x="321" y="809"/>
                      </a:lnTo>
                      <a:lnTo>
                        <a:pt x="0" y="8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726000" y="4498920"/>
                  <a:ext cx="56880" cy="419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833640" y="4498920"/>
                  <a:ext cx="54000" cy="419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956040" y="4356000"/>
                  <a:ext cx="353880" cy="1273320"/>
                </a:xfrm>
                <a:custGeom>
                  <a:avLst/>
                  <a:gdLst/>
                  <a:ahLst/>
                  <a:rect l="l" t="t" r="r" b="b"/>
                  <a:pathLst>
                    <a:path w="223" h="802">
                      <a:moveTo>
                        <a:pt x="0" y="0"/>
                      </a:moveTo>
                      <a:lnTo>
                        <a:pt x="0" y="801"/>
                      </a:lnTo>
                      <a:lnTo>
                        <a:pt x="222" y="799"/>
                      </a:lnTo>
                      <a:lnTo>
                        <a:pt x="222" y="8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9360" y="4498920"/>
                  <a:ext cx="54000" cy="419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624120" y="4498920"/>
                  <a:ext cx="54000" cy="419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462480" y="4575240"/>
                  <a:ext cx="473040" cy="1440"/>
                </a:xfrm>
                <a:prstGeom prst="line">
                  <a:avLst/>
                </a:prstGeom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484440" y="4660920"/>
                  <a:ext cx="406440" cy="1440"/>
                </a:xfrm>
                <a:prstGeom prst="line">
                  <a:avLst/>
                </a:prstGeom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476520" y="4746600"/>
                  <a:ext cx="474840" cy="1440"/>
                </a:xfrm>
                <a:prstGeom prst="line">
                  <a:avLst/>
                </a:prstGeom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508200" y="4826160"/>
                  <a:ext cx="408240" cy="1440"/>
                </a:xfrm>
                <a:prstGeom prst="line">
                  <a:avLst/>
                </a:prstGeom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0" name=""/>
            <p:cNvSpPr/>
            <p:nvPr/>
          </p:nvSpPr>
          <p:spPr>
            <a:xfrm>
              <a:off x="762120" y="5021280"/>
              <a:ext cx="7626240" cy="1147680"/>
            </a:xfrm>
            <a:custGeom>
              <a:avLst/>
              <a:gdLst/>
              <a:ahLst/>
              <a:rect l="l" t="t" r="r" b="b"/>
              <a:pathLst>
                <a:path w="4804" h="723">
                  <a:moveTo>
                    <a:pt x="0" y="225"/>
                  </a:moveTo>
                  <a:lnTo>
                    <a:pt x="98" y="147"/>
                  </a:lnTo>
                  <a:lnTo>
                    <a:pt x="158" y="184"/>
                  </a:lnTo>
                  <a:lnTo>
                    <a:pt x="205" y="92"/>
                  </a:lnTo>
                  <a:lnTo>
                    <a:pt x="425" y="138"/>
                  </a:lnTo>
                  <a:lnTo>
                    <a:pt x="485" y="62"/>
                  </a:lnTo>
                  <a:lnTo>
                    <a:pt x="565" y="124"/>
                  </a:lnTo>
                  <a:lnTo>
                    <a:pt x="640" y="105"/>
                  </a:lnTo>
                  <a:lnTo>
                    <a:pt x="707" y="98"/>
                  </a:lnTo>
                  <a:lnTo>
                    <a:pt x="775" y="149"/>
                  </a:lnTo>
                  <a:lnTo>
                    <a:pt x="829" y="88"/>
                  </a:lnTo>
                  <a:lnTo>
                    <a:pt x="945" y="113"/>
                  </a:lnTo>
                  <a:lnTo>
                    <a:pt x="1009" y="107"/>
                  </a:lnTo>
                  <a:lnTo>
                    <a:pt x="1034" y="138"/>
                  </a:lnTo>
                  <a:lnTo>
                    <a:pt x="1084" y="93"/>
                  </a:lnTo>
                  <a:lnTo>
                    <a:pt x="1153" y="163"/>
                  </a:lnTo>
                  <a:lnTo>
                    <a:pt x="1218" y="187"/>
                  </a:lnTo>
                  <a:lnTo>
                    <a:pt x="1274" y="130"/>
                  </a:lnTo>
                  <a:lnTo>
                    <a:pt x="1374" y="151"/>
                  </a:lnTo>
                  <a:lnTo>
                    <a:pt x="1422" y="197"/>
                  </a:lnTo>
                  <a:lnTo>
                    <a:pt x="1459" y="158"/>
                  </a:lnTo>
                  <a:lnTo>
                    <a:pt x="1527" y="160"/>
                  </a:lnTo>
                  <a:lnTo>
                    <a:pt x="1671" y="143"/>
                  </a:lnTo>
                  <a:lnTo>
                    <a:pt x="1738" y="160"/>
                  </a:lnTo>
                  <a:lnTo>
                    <a:pt x="1804" y="175"/>
                  </a:lnTo>
                  <a:lnTo>
                    <a:pt x="1862" y="136"/>
                  </a:lnTo>
                  <a:lnTo>
                    <a:pt x="2026" y="197"/>
                  </a:lnTo>
                  <a:lnTo>
                    <a:pt x="2068" y="147"/>
                  </a:lnTo>
                  <a:lnTo>
                    <a:pt x="2226" y="161"/>
                  </a:lnTo>
                  <a:lnTo>
                    <a:pt x="2491" y="149"/>
                  </a:lnTo>
                  <a:lnTo>
                    <a:pt x="2551" y="68"/>
                  </a:lnTo>
                  <a:lnTo>
                    <a:pt x="2788" y="53"/>
                  </a:lnTo>
                  <a:lnTo>
                    <a:pt x="3011" y="107"/>
                  </a:lnTo>
                  <a:lnTo>
                    <a:pt x="3087" y="93"/>
                  </a:lnTo>
                  <a:lnTo>
                    <a:pt x="3168" y="76"/>
                  </a:lnTo>
                  <a:lnTo>
                    <a:pt x="3314" y="113"/>
                  </a:lnTo>
                  <a:lnTo>
                    <a:pt x="3356" y="87"/>
                  </a:lnTo>
                  <a:lnTo>
                    <a:pt x="3392" y="88"/>
                  </a:lnTo>
                  <a:lnTo>
                    <a:pt x="3630" y="57"/>
                  </a:lnTo>
                  <a:lnTo>
                    <a:pt x="3690" y="124"/>
                  </a:lnTo>
                  <a:lnTo>
                    <a:pt x="3821" y="28"/>
                  </a:lnTo>
                  <a:lnTo>
                    <a:pt x="3888" y="37"/>
                  </a:lnTo>
                  <a:lnTo>
                    <a:pt x="4016" y="76"/>
                  </a:lnTo>
                  <a:lnTo>
                    <a:pt x="4075" y="77"/>
                  </a:lnTo>
                  <a:lnTo>
                    <a:pt x="4140" y="33"/>
                  </a:lnTo>
                  <a:lnTo>
                    <a:pt x="4666" y="26"/>
                  </a:lnTo>
                  <a:lnTo>
                    <a:pt x="4730" y="25"/>
                  </a:lnTo>
                  <a:lnTo>
                    <a:pt x="4803" y="0"/>
                  </a:lnTo>
                  <a:lnTo>
                    <a:pt x="4803" y="722"/>
                  </a:lnTo>
                  <a:lnTo>
                    <a:pt x="0" y="722"/>
                  </a:lnTo>
                  <a:lnTo>
                    <a:pt x="0" y="225"/>
                  </a:lnTo>
                </a:path>
              </a:pathLst>
            </a:cu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572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Workforce Divers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34A2-10ED-458D-BB26-DD6C15A8C66C}" type="slidenum">
              <a:t>10</a:t>
            </a:fld>
          </a:p>
        </p:txBody>
      </p:sp>
    </p:spTree>
  </p:cSld>
  <p:transition spd="med" advTm="8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8640" y="534960"/>
            <a:ext cx="8226720" cy="2511360"/>
          </a:xfrm>
          <a:prstGeom prst="rect">
            <a:avLst/>
          </a:prstGeom>
          <a:gradFill rotWithShape="0">
            <a:gsLst>
              <a:gs pos="0">
                <a:srgbClr val="651900"/>
              </a:gs>
              <a:gs pos="50000">
                <a:srgbClr val="cc3300"/>
              </a:gs>
              <a:gs pos="100000">
                <a:srgbClr val="651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The Challenge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of Globaliz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8640" y="3049560"/>
            <a:ext cx="4111920" cy="3121200"/>
          </a:xfrm>
          <a:prstGeom prst="rect">
            <a:avLst/>
          </a:prstGeom>
          <a:gradFill rotWithShape="0">
            <a:gsLst>
              <a:gs pos="0">
                <a:srgbClr val="651900"/>
              </a:gs>
              <a:gs pos="50000">
                <a:srgbClr val="cc3300"/>
              </a:gs>
              <a:gs pos="100000">
                <a:srgbClr val="651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orking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Fore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3440" y="3049560"/>
            <a:ext cx="4111920" cy="3121200"/>
          </a:xfrm>
          <a:prstGeom prst="rect">
            <a:avLst/>
          </a:prstGeom>
          <a:gradFill rotWithShape="0">
            <a:gsLst>
              <a:gs pos="0">
                <a:srgbClr val="651900"/>
              </a:gs>
              <a:gs pos="50000">
                <a:srgbClr val="cc3300"/>
              </a:gs>
              <a:gs pos="100000">
                <a:srgbClr val="651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orking w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ulticult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ivers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38B-D578-48F3-9C06-C91DE01EA840}" type="slidenum">
              <a:t>11</a:t>
            </a:fld>
          </a:p>
        </p:txBody>
      </p:sp>
    </p:spTree>
  </p:cSld>
  <p:transition spd="med" advTm="8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8640" y="534960"/>
            <a:ext cx="8226720" cy="2511360"/>
          </a:xfrm>
          <a:prstGeom prst="rect">
            <a:avLst/>
          </a:prstGeom>
          <a:gradFill rotWithShape="0">
            <a:gsLst>
              <a:gs pos="0">
                <a:srgbClr val="004b00"/>
              </a:gs>
              <a:gs pos="50000">
                <a:srgbClr val="009900"/>
              </a:gs>
              <a:gs pos="100000">
                <a:srgbClr val="004b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Empowering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the Workfor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8640" y="3049560"/>
            <a:ext cx="4111920" cy="3121200"/>
          </a:xfrm>
          <a:prstGeom prst="rect">
            <a:avLst/>
          </a:prstGeom>
          <a:gradFill rotWithShape="0">
            <a:gsLst>
              <a:gs pos="0">
                <a:srgbClr val="004b00"/>
              </a:gs>
              <a:gs pos="50000">
                <a:srgbClr val="009900"/>
              </a:gs>
              <a:gs pos="100000">
                <a:srgbClr val="004b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ana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re Gi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Up Contr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3440" y="3049560"/>
            <a:ext cx="4111920" cy="3121200"/>
          </a:xfrm>
          <a:prstGeom prst="rect">
            <a:avLst/>
          </a:prstGeom>
          <a:gradFill rotWithShape="0">
            <a:gsLst>
              <a:gs pos="0">
                <a:srgbClr val="004b00"/>
              </a:gs>
              <a:gs pos="50000">
                <a:srgbClr val="009900"/>
              </a:gs>
              <a:gs pos="100000">
                <a:srgbClr val="004b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orkers 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ccep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espons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B79-69D6-4BF1-8B5E-25BA419125F5}" type="slidenum">
              <a:t>12</a:t>
            </a:fld>
          </a:p>
        </p:txBody>
      </p:sp>
    </p:spTree>
  </p:cSld>
  <p:transition spd="med" advTm="8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8640" y="534960"/>
            <a:ext cx="8226720" cy="2511360"/>
          </a:xfrm>
          <a:prstGeom prst="rect">
            <a:avLst/>
          </a:prstGeom>
          <a:gradFill rotWithShape="0">
            <a:gsLst>
              <a:gs pos="0">
                <a:srgbClr val="6a0048"/>
              </a:gs>
              <a:gs pos="50000">
                <a:srgbClr val="d60093"/>
              </a:gs>
              <a:gs pos="100000">
                <a:srgbClr val="6a004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Coping with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“Temporariness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8640" y="3049560"/>
            <a:ext cx="4111920" cy="3121200"/>
          </a:xfrm>
          <a:prstGeom prst="rect">
            <a:avLst/>
          </a:prstGeom>
          <a:gradFill rotWithShape="0">
            <a:gsLst>
              <a:gs pos="0">
                <a:srgbClr val="6a0048"/>
              </a:gs>
              <a:gs pos="50000">
                <a:srgbClr val="d60093"/>
              </a:gs>
              <a:gs pos="100000">
                <a:srgbClr val="6a004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f Work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ha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3440" y="3049560"/>
            <a:ext cx="4111920" cy="3121200"/>
          </a:xfrm>
          <a:prstGeom prst="rect">
            <a:avLst/>
          </a:prstGeom>
          <a:gradFill rotWithShape="0">
            <a:gsLst>
              <a:gs pos="0">
                <a:srgbClr val="6a0048"/>
              </a:gs>
              <a:gs pos="50000">
                <a:srgbClr val="d60093"/>
              </a:gs>
              <a:gs pos="100000">
                <a:srgbClr val="6a004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rganiz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re Al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ha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420-D114-4406-AE64-1840419EC7C8}" type="slidenum">
              <a:t>13</a:t>
            </a:fld>
          </a:p>
        </p:txBody>
      </p:sp>
    </p:spTree>
  </p:cSld>
  <p:transition spd="med" advTm="8000"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8640" y="534960"/>
            <a:ext cx="8226720" cy="2511360"/>
          </a:xfrm>
          <a:prstGeom prst="rect">
            <a:avLst/>
          </a:prstGeom>
          <a:gradFill rotWithShape="0">
            <a:gsLst>
              <a:gs pos="0">
                <a:srgbClr val="191965"/>
              </a:gs>
              <a:gs pos="50000">
                <a:srgbClr val="3333cc"/>
              </a:gs>
              <a:gs pos="100000">
                <a:srgbClr val="19196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Declining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Employee Loyal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8640" y="3049560"/>
            <a:ext cx="4111920" cy="3121200"/>
          </a:xfrm>
          <a:prstGeom prst="rect">
            <a:avLst/>
          </a:prstGeom>
          <a:gradFill rotWithShape="0">
            <a:gsLst>
              <a:gs pos="0">
                <a:srgbClr val="191965"/>
              </a:gs>
              <a:gs pos="50000">
                <a:srgbClr val="3333cc"/>
              </a:gs>
              <a:gs pos="100000">
                <a:srgbClr val="19196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orkfor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3440" y="3049560"/>
            <a:ext cx="4111920" cy="3121200"/>
          </a:xfrm>
          <a:prstGeom prst="rect">
            <a:avLst/>
          </a:prstGeom>
          <a:gradFill rotWithShape="0">
            <a:gsLst>
              <a:gs pos="0">
                <a:srgbClr val="191965"/>
              </a:gs>
              <a:gs pos="50000">
                <a:srgbClr val="3333cc"/>
              </a:gs>
              <a:gs pos="100000">
                <a:srgbClr val="19196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Glob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pet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9239-DE0F-43DA-A3E9-76E969C6EBC5}" type="slidenum">
              <a:t>14</a:t>
            </a:fld>
          </a:p>
        </p:txBody>
      </p:sp>
    </p:spTree>
  </p:cSld>
  <p:transition spd="med" advTm="8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2520" y="528120"/>
            <a:ext cx="8238960" cy="2372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4752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Improving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Ethical Behavior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2520" y="2890800"/>
            <a:ext cx="8238960" cy="3286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4752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in-house advis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 protection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e and distribute codes of eth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fer seminars, workshops, and trai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FF4-594B-4669-98AF-7940EE001740}" type="slidenum">
              <a:t>15</a:t>
            </a:fld>
          </a:p>
        </p:txBody>
      </p:sp>
    </p:spTree>
  </p:cSld>
  <p:transition spd="med" advTm="8000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75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75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75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75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8640" y="534960"/>
            <a:ext cx="7998120" cy="835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Levels of OB Analy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8640" y="1373040"/>
            <a:ext cx="7998120" cy="4797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257480" y="1447920"/>
            <a:ext cx="6683040" cy="4597200"/>
            <a:chOff x="1257480" y="1447920"/>
            <a:chExt cx="6683040" cy="4597200"/>
          </a:xfrm>
        </p:grpSpPr>
        <p:sp>
          <p:nvSpPr>
            <p:cNvPr id="209" name=""/>
            <p:cNvSpPr/>
            <p:nvPr/>
          </p:nvSpPr>
          <p:spPr>
            <a:xfrm>
              <a:off x="1257480" y="1447920"/>
              <a:ext cx="6683040" cy="4597200"/>
            </a:xfrm>
            <a:custGeom>
              <a:avLst/>
              <a:gdLst>
                <a:gd name="textAreaLeft" fmla="*/ 1525680 w 6683040"/>
                <a:gd name="textAreaRight" fmla="*/ 5157360 w 6683040"/>
                <a:gd name="textAreaTop" fmla="*/ 1049400 h 4597200"/>
                <a:gd name="textAreaBottom" fmla="*/ 3547800 h 459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97240" y="2292480"/>
              <a:ext cx="2379600" cy="192852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Individ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Lev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40400" y="2292480"/>
              <a:ext cx="2377800" cy="192564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Grou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Lev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21000" y="3543480"/>
              <a:ext cx="2381400" cy="192852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Organiz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System Lev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03D1-5924-4F27-940C-4B0C898A217B}" type="slidenum">
              <a:t>16</a:t>
            </a:fld>
          </a:p>
        </p:txBody>
      </p:sp>
    </p:spTree>
  </p:cSld>
  <p:transition spd="med" advTm="8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1120" y="604800"/>
            <a:ext cx="7781760" cy="115272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earning Objectiv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organizational behavior (OB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the primary behavioral disciplines that contribute to O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 the three goals of O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the challenges and opportunities for Managers to use O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608-2C01-4A2E-8C83-5D6C94D30BBC}" type="slidenum">
              <a:t>2</a:t>
            </a:fld>
          </a:p>
        </p:txBody>
      </p:sp>
    </p:spTree>
  </p:cSld>
  <p:transition spd="med" advTm="8000"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1120" y="604800"/>
            <a:ext cx="7781760" cy="115272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earning Objectiv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ain the key elements in total quality management (TQ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 why workforce diversity has become an important issue in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ain how managers and organizations are dealing with employee ethical dilemm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4EA-153A-417A-A6FB-6F290D0EF9AE}" type="slidenum">
              <a:t>3</a:t>
            </a:fld>
          </a:p>
        </p:txBody>
      </p:sp>
    </p:spTree>
  </p:cSld>
  <p:transition spd="med" advTm="8000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8640" y="2287440"/>
            <a:ext cx="8226720" cy="3883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8640" y="534960"/>
            <a:ext cx="8226720" cy="1749600"/>
          </a:xfrm>
          <a:prstGeom prst="rect">
            <a:avLst/>
          </a:prstGeom>
          <a:solidFill>
            <a:srgbClr val="99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Organizational Behavi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9240" y="2516040"/>
            <a:ext cx="2968920" cy="1673280"/>
          </a:xfrm>
          <a:prstGeom prst="rect">
            <a:avLst/>
          </a:prstGeom>
          <a:solidFill>
            <a:srgbClr val="99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5840" y="2516040"/>
            <a:ext cx="2968920" cy="1673280"/>
          </a:xfrm>
          <a:prstGeom prst="rect">
            <a:avLst/>
          </a:prstGeom>
          <a:solidFill>
            <a:srgbClr val="99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iv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enteeis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Turn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560" y="4421160"/>
            <a:ext cx="2968560" cy="1673280"/>
          </a:xfrm>
          <a:prstGeom prst="rect">
            <a:avLst/>
          </a:prstGeom>
          <a:solidFill>
            <a:srgbClr val="99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00480" y="4191120"/>
            <a:ext cx="649080" cy="1068120"/>
          </a:xfrm>
          <a:custGeom>
            <a:avLst/>
            <a:gdLst/>
            <a:ahLst/>
            <a:rect l="l" t="t" r="r" b="b"/>
            <a:pathLst>
              <a:path w="409" h="673">
                <a:moveTo>
                  <a:pt x="0" y="0"/>
                </a:moveTo>
                <a:lnTo>
                  <a:pt x="0" y="672"/>
                </a:lnTo>
                <a:lnTo>
                  <a:pt x="408" y="67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4191120"/>
            <a:ext cx="725400" cy="1068120"/>
          </a:xfrm>
          <a:custGeom>
            <a:avLst/>
            <a:gdLst/>
            <a:ahLst/>
            <a:rect l="l" t="t" r="r" b="b"/>
            <a:pathLst>
              <a:path w="457" h="673">
                <a:moveTo>
                  <a:pt x="456" y="0"/>
                </a:moveTo>
                <a:lnTo>
                  <a:pt x="456" y="672"/>
                </a:lnTo>
                <a:lnTo>
                  <a:pt x="0" y="67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2286000"/>
            <a:ext cx="687240" cy="1068480"/>
          </a:xfrm>
          <a:custGeom>
            <a:avLst/>
            <a:gdLst/>
            <a:ahLst/>
            <a:rect l="l" t="t" r="r" b="b"/>
            <a:pathLst>
              <a:path w="433" h="673">
                <a:moveTo>
                  <a:pt x="0" y="672"/>
                </a:moveTo>
                <a:lnTo>
                  <a:pt x="432" y="672"/>
                </a:lnTo>
                <a:lnTo>
                  <a:pt x="432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286000"/>
            <a:ext cx="687240" cy="1068480"/>
          </a:xfrm>
          <a:custGeom>
            <a:avLst/>
            <a:gdLst/>
            <a:ahLst/>
            <a:rect l="l" t="t" r="r" b="b"/>
            <a:pathLst>
              <a:path w="433" h="673">
                <a:moveTo>
                  <a:pt x="432" y="672"/>
                </a:moveTo>
                <a:lnTo>
                  <a:pt x="0" y="672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511A-470F-4921-8460-BE403875FCA9}" type="slidenum">
              <a:t>4</a:t>
            </a:fld>
          </a:p>
        </p:txBody>
      </p:sp>
    </p:spTree>
  </p:cSld>
  <p:transition spd="med" advTm="8000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8640" y="2135160"/>
            <a:ext cx="3121200" cy="2435400"/>
          </a:xfrm>
          <a:prstGeom prst="rect">
            <a:avLst/>
          </a:prstGeom>
          <a:gradFill rotWithShape="0">
            <a:gsLst>
              <a:gs pos="0">
                <a:srgbClr val="7e0000"/>
              </a:gs>
              <a:gs pos="50000">
                <a:srgbClr val="ff0000"/>
              </a:gs>
              <a:gs pos="100000">
                <a:srgbClr val="7e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4040" y="2184480"/>
            <a:ext cx="293040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udy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1160" y="763560"/>
            <a:ext cx="4264200" cy="758880"/>
          </a:xfrm>
          <a:prstGeom prst="rect">
            <a:avLst/>
          </a:prstGeom>
          <a:gradFill rotWithShape="0">
            <a:gsLst>
              <a:gs pos="0">
                <a:srgbClr val="7e0000"/>
              </a:gs>
              <a:gs pos="50000">
                <a:srgbClr val="ff0000"/>
              </a:gs>
              <a:gs pos="100000">
                <a:srgbClr val="7e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16560" y="812880"/>
            <a:ext cx="40734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sych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1160" y="1849320"/>
            <a:ext cx="4264200" cy="758880"/>
          </a:xfrm>
          <a:prstGeom prst="rect">
            <a:avLst/>
          </a:prstGeom>
          <a:gradFill rotWithShape="0">
            <a:gsLst>
              <a:gs pos="0">
                <a:srgbClr val="7e0000"/>
              </a:gs>
              <a:gs pos="50000">
                <a:srgbClr val="ff0000"/>
              </a:gs>
              <a:gs pos="100000">
                <a:srgbClr val="7e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16560" y="1898640"/>
            <a:ext cx="40734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1160" y="2973240"/>
            <a:ext cx="4264200" cy="758880"/>
          </a:xfrm>
          <a:prstGeom prst="rect">
            <a:avLst/>
          </a:prstGeom>
          <a:gradFill rotWithShape="0">
            <a:gsLst>
              <a:gs pos="0">
                <a:srgbClr val="7e0000"/>
              </a:gs>
              <a:gs pos="50000">
                <a:srgbClr val="ff0000"/>
              </a:gs>
              <a:gs pos="100000">
                <a:srgbClr val="7e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16560" y="3022560"/>
            <a:ext cx="4073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sych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21160" y="4021200"/>
            <a:ext cx="4264200" cy="758880"/>
          </a:xfrm>
          <a:prstGeom prst="rect">
            <a:avLst/>
          </a:prstGeom>
          <a:gradFill rotWithShape="0">
            <a:gsLst>
              <a:gs pos="0">
                <a:srgbClr val="7e0000"/>
              </a:gs>
              <a:gs pos="50000">
                <a:srgbClr val="ff0000"/>
              </a:gs>
              <a:gs pos="100000">
                <a:srgbClr val="7e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16560" y="4070520"/>
            <a:ext cx="40734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hr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21160" y="5106960"/>
            <a:ext cx="4264200" cy="758880"/>
          </a:xfrm>
          <a:prstGeom prst="rect">
            <a:avLst/>
          </a:prstGeom>
          <a:gradFill rotWithShape="0">
            <a:gsLst>
              <a:gs pos="0">
                <a:srgbClr val="7e0000"/>
              </a:gs>
              <a:gs pos="50000">
                <a:srgbClr val="ff0000"/>
              </a:gs>
              <a:gs pos="100000">
                <a:srgbClr val="7e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16560" y="5156280"/>
            <a:ext cx="40734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litical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19240" y="1143000"/>
            <a:ext cx="2401920" cy="992160"/>
          </a:xfrm>
          <a:custGeom>
            <a:avLst/>
            <a:gdLst/>
            <a:ahLst/>
            <a:rect l="l" t="t" r="r" b="b"/>
            <a:pathLst>
              <a:path w="1513" h="625">
                <a:moveTo>
                  <a:pt x="0" y="624"/>
                </a:moveTo>
                <a:lnTo>
                  <a:pt x="0" y="0"/>
                </a:lnTo>
                <a:lnTo>
                  <a:pt x="1512" y="0"/>
                </a:lnTo>
              </a:path>
            </a:pathLst>
          </a:custGeom>
          <a:gradFill rotWithShape="0">
            <a:gsLst>
              <a:gs pos="0">
                <a:srgbClr val="7e0000"/>
              </a:gs>
              <a:gs pos="50000">
                <a:srgbClr val="ff0000"/>
              </a:gs>
              <a:gs pos="100000">
                <a:srgbClr val="7e0000"/>
              </a:gs>
            </a:gsLst>
            <a:lin ang="5400000"/>
          </a:gradFill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2228760"/>
            <a:ext cx="839880" cy="1125720"/>
          </a:xfrm>
          <a:custGeom>
            <a:avLst/>
            <a:gdLst/>
            <a:ahLst/>
            <a:rect l="l" t="t" r="r" b="b"/>
            <a:pathLst>
              <a:path w="529" h="709">
                <a:moveTo>
                  <a:pt x="0" y="708"/>
                </a:moveTo>
                <a:lnTo>
                  <a:pt x="264" y="708"/>
                </a:lnTo>
                <a:lnTo>
                  <a:pt x="264" y="0"/>
                </a:lnTo>
                <a:lnTo>
                  <a:pt x="528" y="0"/>
                </a:lnTo>
              </a:path>
            </a:pathLst>
          </a:custGeom>
          <a:gradFill rotWithShape="0">
            <a:gsLst>
              <a:gs pos="0">
                <a:srgbClr val="7e0000"/>
              </a:gs>
              <a:gs pos="50000">
                <a:srgbClr val="ff0000"/>
              </a:gs>
              <a:gs pos="100000">
                <a:srgbClr val="7e0000"/>
              </a:gs>
            </a:gsLst>
            <a:lin ang="5400000"/>
          </a:gradFill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3352680"/>
            <a:ext cx="839880" cy="1800"/>
          </a:xfrm>
          <a:custGeom>
            <a:avLst/>
            <a:gdLst/>
            <a:ahLst/>
            <a:rect l="l" t="t" r="r" b="b"/>
            <a:pathLst>
              <a:path w="529" h="1">
                <a:moveTo>
                  <a:pt x="0" y="0"/>
                </a:moveTo>
                <a:lnTo>
                  <a:pt x="528" y="0"/>
                </a:lnTo>
              </a:path>
            </a:pathLst>
          </a:custGeom>
          <a:gradFill rotWithShape="0">
            <a:gsLst>
              <a:gs pos="0">
                <a:srgbClr val="7e0000"/>
              </a:gs>
              <a:gs pos="50000">
                <a:srgbClr val="ff0000"/>
              </a:gs>
              <a:gs pos="100000">
                <a:srgbClr val="7e0000"/>
              </a:gs>
            </a:gsLst>
            <a:lin ang="5400000"/>
          </a:gradFill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3352680"/>
            <a:ext cx="839880" cy="1049400"/>
          </a:xfrm>
          <a:custGeom>
            <a:avLst/>
            <a:gdLst/>
            <a:ahLst/>
            <a:rect l="l" t="t" r="r" b="b"/>
            <a:pathLst>
              <a:path w="529" h="661">
                <a:moveTo>
                  <a:pt x="0" y="0"/>
                </a:moveTo>
                <a:lnTo>
                  <a:pt x="264" y="0"/>
                </a:lnTo>
                <a:lnTo>
                  <a:pt x="264" y="660"/>
                </a:lnTo>
                <a:lnTo>
                  <a:pt x="528" y="660"/>
                </a:lnTo>
              </a:path>
            </a:pathLst>
          </a:custGeom>
          <a:gradFill rotWithShape="0">
            <a:gsLst>
              <a:gs pos="0">
                <a:srgbClr val="7e0000"/>
              </a:gs>
              <a:gs pos="50000">
                <a:srgbClr val="ff0000"/>
              </a:gs>
              <a:gs pos="100000">
                <a:srgbClr val="7e0000"/>
              </a:gs>
            </a:gsLst>
            <a:lin ang="5400000"/>
          </a:gradFill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19240" y="4572000"/>
            <a:ext cx="2401920" cy="915840"/>
          </a:xfrm>
          <a:custGeom>
            <a:avLst/>
            <a:gdLst/>
            <a:ahLst/>
            <a:rect l="l" t="t" r="r" b="b"/>
            <a:pathLst>
              <a:path w="1513" h="577">
                <a:moveTo>
                  <a:pt x="0" y="0"/>
                </a:moveTo>
                <a:lnTo>
                  <a:pt x="0" y="576"/>
                </a:lnTo>
                <a:lnTo>
                  <a:pt x="1512" y="576"/>
                </a:lnTo>
              </a:path>
            </a:pathLst>
          </a:custGeom>
          <a:gradFill rotWithShape="0">
            <a:gsLst>
              <a:gs pos="0">
                <a:srgbClr val="7e0000"/>
              </a:gs>
              <a:gs pos="50000">
                <a:srgbClr val="ff0000"/>
              </a:gs>
              <a:gs pos="100000">
                <a:srgbClr val="7e0000"/>
              </a:gs>
            </a:gsLst>
            <a:lin ang="5400000"/>
          </a:gradFill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F56-D10D-47EC-905F-B05E88745A44}" type="slidenum">
              <a:t>5</a:t>
            </a:fld>
          </a:p>
        </p:txBody>
      </p:sp>
    </p:spTree>
  </p:cSld>
  <p:transition spd="med" advTm="8000">
    <p:wheel spokes="2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8640" y="2668680"/>
            <a:ext cx="8226720" cy="3502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8640" y="534960"/>
            <a:ext cx="8226720" cy="2130480"/>
          </a:xfrm>
          <a:prstGeom prst="rect">
            <a:avLst/>
          </a:prstGeom>
          <a:gradFill rotWithShape="0">
            <a:gsLst>
              <a:gs pos="0">
                <a:srgbClr val="191965"/>
              </a:gs>
              <a:gs pos="50000">
                <a:srgbClr val="3333cc"/>
              </a:gs>
              <a:gs pos="100000">
                <a:srgbClr val="191965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7819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Goals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Organizational Behavi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3352680"/>
            <a:ext cx="2819160" cy="2590920"/>
          </a:xfrm>
          <a:prstGeom prst="ellipse">
            <a:avLst/>
          </a:prstGeom>
          <a:gradFill rotWithShape="0">
            <a:gsLst>
              <a:gs pos="0">
                <a:srgbClr val="cc0066"/>
              </a:gs>
              <a:gs pos="100000">
                <a:srgbClr val="79003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di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352680"/>
            <a:ext cx="2819160" cy="25909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98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3352680"/>
            <a:ext cx="2819520" cy="259092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4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18E3-EF87-4BC9-8876-645E903C7D20}" type="slidenum">
              <a:t>6</a:t>
            </a:fld>
          </a:p>
        </p:txBody>
      </p:sp>
    </p:spTree>
  </p:cSld>
  <p:transition spd="med" advTm="8000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hallenges and Opportunities for OB: A Managerial Perspectiv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BB5-921E-4BF3-85CB-463D812DEC9B}" type="slidenum">
              <a:t>7</a:t>
            </a:fld>
          </a:p>
        </p:txBody>
      </p:sp>
    </p:spTree>
  </p:cSld>
  <p:transition spd="med" advTm="8000">
    <p:diamond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5029200"/>
            <a:ext cx="3657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3581280"/>
            <a:ext cx="3733920" cy="106704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581280"/>
            <a:ext cx="3657600" cy="106704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5029200"/>
            <a:ext cx="373392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powe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533520"/>
            <a:ext cx="7772400" cy="144756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mproving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nd Produ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209680"/>
            <a:ext cx="3657600" cy="106704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257480"/>
            <a:ext cx="2287440" cy="1487160"/>
          </a:xfrm>
          <a:custGeom>
            <a:avLst/>
            <a:gdLst/>
            <a:ahLst/>
            <a:rect l="l" t="t" r="r" b="b"/>
            <a:pathLst>
              <a:path w="1441" h="937">
                <a:moveTo>
                  <a:pt x="144" y="0"/>
                </a:moveTo>
                <a:lnTo>
                  <a:pt x="0" y="0"/>
                </a:lnTo>
                <a:lnTo>
                  <a:pt x="0" y="936"/>
                </a:lnTo>
                <a:lnTo>
                  <a:pt x="1440" y="93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1257480"/>
            <a:ext cx="2287440" cy="1487160"/>
          </a:xfrm>
          <a:custGeom>
            <a:avLst/>
            <a:gdLst/>
            <a:ahLst/>
            <a:rect l="l" t="t" r="r" b="b"/>
            <a:pathLst>
              <a:path w="1441" h="937">
                <a:moveTo>
                  <a:pt x="1296" y="0"/>
                </a:moveTo>
                <a:lnTo>
                  <a:pt x="1440" y="0"/>
                </a:lnTo>
                <a:lnTo>
                  <a:pt x="1440" y="936"/>
                </a:lnTo>
                <a:lnTo>
                  <a:pt x="0" y="93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2743200"/>
            <a:ext cx="230040" cy="839880"/>
          </a:xfrm>
          <a:custGeom>
            <a:avLst/>
            <a:gdLst/>
            <a:ahLst/>
            <a:rect l="l" t="t" r="r" b="b"/>
            <a:pathLst>
              <a:path w="145" h="529">
                <a:moveTo>
                  <a:pt x="144" y="0"/>
                </a:moveTo>
                <a:lnTo>
                  <a:pt x="0" y="0"/>
                </a:lnTo>
                <a:lnTo>
                  <a:pt x="0" y="52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2743200"/>
            <a:ext cx="192240" cy="839880"/>
          </a:xfrm>
          <a:custGeom>
            <a:avLst/>
            <a:gdLst/>
            <a:ahLst/>
            <a:rect l="l" t="t" r="r" b="b"/>
            <a:pathLst>
              <a:path w="121" h="529">
                <a:moveTo>
                  <a:pt x="0" y="0"/>
                </a:moveTo>
                <a:lnTo>
                  <a:pt x="120" y="0"/>
                </a:lnTo>
                <a:lnTo>
                  <a:pt x="120" y="52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4648320"/>
            <a:ext cx="1440" cy="38232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91240" y="4648320"/>
            <a:ext cx="1800" cy="38232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36E-B696-411A-8675-5A12731E3628}" type="slidenum">
              <a:t>8</a:t>
            </a:fld>
          </a:p>
        </p:txBody>
      </p:sp>
    </p:spTree>
  </p:cSld>
  <p:transition spd="med" advTm="8000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457200" y="574560"/>
            <a:ext cx="8229600" cy="5581800"/>
            <a:chOff x="457200" y="574560"/>
            <a:chExt cx="8229600" cy="5581800"/>
          </a:xfrm>
        </p:grpSpPr>
        <p:sp>
          <p:nvSpPr>
            <p:cNvPr id="98" name=""/>
            <p:cNvSpPr/>
            <p:nvPr/>
          </p:nvSpPr>
          <p:spPr>
            <a:xfrm>
              <a:off x="5029200" y="574560"/>
              <a:ext cx="3657600" cy="1540080"/>
            </a:xfrm>
            <a:prstGeom prst="rect">
              <a:avLst/>
            </a:prstGeom>
            <a:gradFill rotWithShape="0">
              <a:gsLst>
                <a:gs pos="0">
                  <a:srgbClr val="191965"/>
                </a:gs>
                <a:gs pos="50000">
                  <a:srgbClr val="3333cc"/>
                </a:gs>
                <a:gs pos="100000">
                  <a:srgbClr val="19196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Motiv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462040"/>
              <a:ext cx="3886200" cy="2076480"/>
            </a:xfrm>
            <a:prstGeom prst="rect">
              <a:avLst/>
            </a:prstGeom>
            <a:gradFill rotWithShape="0">
              <a:gsLst>
                <a:gs pos="0">
                  <a:srgbClr val="191965"/>
                </a:gs>
                <a:gs pos="50000">
                  <a:srgbClr val="3333cc"/>
                </a:gs>
                <a:gs pos="100000">
                  <a:srgbClr val="19196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Improv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People Skill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9200" y="2595600"/>
              <a:ext cx="3657600" cy="1538280"/>
            </a:xfrm>
            <a:prstGeom prst="rect">
              <a:avLst/>
            </a:prstGeom>
            <a:gradFill rotWithShape="0">
              <a:gsLst>
                <a:gs pos="0">
                  <a:srgbClr val="191965"/>
                </a:gs>
                <a:gs pos="50000">
                  <a:srgbClr val="3333cc"/>
                </a:gs>
                <a:gs pos="100000">
                  <a:srgbClr val="19196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ommunic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29200" y="4616280"/>
              <a:ext cx="3657600" cy="1540080"/>
            </a:xfrm>
            <a:prstGeom prst="rect">
              <a:avLst/>
            </a:prstGeom>
            <a:gradFill rotWithShape="0">
              <a:gsLst>
                <a:gs pos="0">
                  <a:srgbClr val="191965"/>
                </a:gs>
                <a:gs pos="50000">
                  <a:srgbClr val="3333cc"/>
                </a:gs>
                <a:gs pos="100000">
                  <a:srgbClr val="19196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Teamwor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00480" y="1344600"/>
              <a:ext cx="2630160" cy="1119240"/>
            </a:xfrm>
            <a:custGeom>
              <a:avLst/>
              <a:gdLst/>
              <a:ahLst/>
              <a:rect l="l" t="t" r="r" b="b"/>
              <a:pathLst>
                <a:path w="1657" h="705">
                  <a:moveTo>
                    <a:pt x="0" y="704"/>
                  </a:moveTo>
                  <a:lnTo>
                    <a:pt x="0" y="0"/>
                  </a:lnTo>
                  <a:lnTo>
                    <a:pt x="1656" y="0"/>
                  </a:lnTo>
                </a:path>
              </a:pathLst>
            </a:custGeom>
            <a:gradFill rotWithShape="0">
              <a:gsLst>
                <a:gs pos="0">
                  <a:srgbClr val="191965"/>
                </a:gs>
                <a:gs pos="50000">
                  <a:srgbClr val="3333cc"/>
                </a:gs>
                <a:gs pos="100000">
                  <a:srgbClr val="191965"/>
                </a:gs>
              </a:gsLst>
              <a:lin ang="13500000"/>
            </a:gradFill>
            <a:ln cap="rnd"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58000" y="2114640"/>
              <a:ext cx="1440" cy="48240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3"/>
                  </a:lnTo>
                </a:path>
              </a:pathLst>
            </a:custGeom>
            <a:gradFill rotWithShape="0">
              <a:gsLst>
                <a:gs pos="0">
                  <a:srgbClr val="191965"/>
                </a:gs>
                <a:gs pos="50000">
                  <a:srgbClr val="3333cc"/>
                </a:gs>
                <a:gs pos="100000">
                  <a:srgbClr val="191965"/>
                </a:gs>
              </a:gsLst>
              <a:lin ang="13500000"/>
            </a:gradFill>
            <a:ln cap="rnd"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4133880"/>
              <a:ext cx="1440" cy="484200"/>
            </a:xfrm>
            <a:custGeom>
              <a:avLst/>
              <a:gdLst/>
              <a:ahLst/>
              <a:rect l="l" t="t" r="r" b="b"/>
              <a:pathLst>
                <a:path w="1" h="305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gradFill rotWithShape="0">
              <a:gsLst>
                <a:gs pos="0">
                  <a:srgbClr val="191965"/>
                </a:gs>
                <a:gs pos="50000">
                  <a:srgbClr val="3333cc"/>
                </a:gs>
                <a:gs pos="100000">
                  <a:srgbClr val="191965"/>
                </a:gs>
              </a:gsLst>
              <a:lin ang="13500000"/>
            </a:gradFill>
            <a:ln cap="rnd"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00480" y="4538520"/>
              <a:ext cx="2630160" cy="849600"/>
            </a:xfrm>
            <a:custGeom>
              <a:avLst/>
              <a:gdLst/>
              <a:ahLst/>
              <a:rect l="l" t="t" r="r" b="b"/>
              <a:pathLst>
                <a:path w="1657" h="535">
                  <a:moveTo>
                    <a:pt x="1656" y="534"/>
                  </a:moveTo>
                  <a:lnTo>
                    <a:pt x="0" y="534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191965"/>
                </a:gs>
                <a:gs pos="50000">
                  <a:srgbClr val="3333cc"/>
                </a:gs>
                <a:gs pos="100000">
                  <a:srgbClr val="191965"/>
                </a:gs>
              </a:gsLst>
              <a:lin ang="13500000"/>
            </a:gradFill>
            <a:ln cap="rnd"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31E-0659-4779-A7E8-36030E32A3C4}" type="slidenum">
              <a:t>9</a:t>
            </a:fld>
          </a:p>
        </p:txBody>
      </p:sp>
    </p:spTree>
  </p:cSld>
  <p:transition spd="med" advTm="8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6T20:18:22Z</dcterms:created>
  <dc:creator/>
  <dc:description/>
  <dc:language>en-US</dc:language>
  <cp:lastModifiedBy>Guru</cp:lastModifiedBy>
  <cp:lastPrinted>1999-04-04T15:25:24Z</cp:lastPrinted>
  <dcterms:modified xsi:type="dcterms:W3CDTF">2010-01-08T11:55:15Z</dcterms:modified>
  <cp:revision>0</cp:revision>
  <dc:subject/>
  <dc:title>Introduction to Organizational Behavior</dc:title>
</cp:coreProperties>
</file>